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D38-0902-4BE6-9B40-57EE86DB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3921-A69C-4C73-98A9-1E1478DA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350-2006-4311-A7BE-644C32DA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480-C11C-4D41-A326-951108C9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540-C999-4DD2-B612-D35E12CA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F71-8B33-4A55-B976-1628FF1F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A51-F83A-4C06-9790-8584E9BA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3200-9CC3-492C-A034-5B492FD6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79E-A248-4394-AD4B-8EA9B5C9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098-A1E7-49B8-9F38-F1BA7D25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B51F-BEC0-4230-B86A-C877C7E1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E93-5FF9-4CE4-9391-44DA5D70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D935-5235-4BF6-8BD8-C3CF555FE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ult Re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AdultReassessment9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dultReassessment10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AdultReassessment11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AdultReassessment12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AdultReassessment13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AdultReassessment1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AdultReassessment2.jpg"/>
          <p:cNvPicPr/>
          <p:nvPr/>
        </p:nvPicPr>
        <p:blipFill>
          <a:blip r:embed="rId1"/>
          <a:stretch/>
        </p:blipFill>
        <p:spPr>
          <a:xfrm>
            <a:off x="752400" y="819000"/>
            <a:ext cx="76392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dultReassessment3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AdultReassessment4.jpg"/>
          <p:cNvPicPr/>
          <p:nvPr/>
        </p:nvPicPr>
        <p:blipFill>
          <a:blip r:embed="rId1"/>
          <a:stretch/>
        </p:blipFill>
        <p:spPr>
          <a:xfrm>
            <a:off x="762120" y="833400"/>
            <a:ext cx="76197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AdultReassessment5.jpg"/>
          <p:cNvPicPr/>
          <p:nvPr/>
        </p:nvPicPr>
        <p:blipFill>
          <a:blip r:embed="rId1"/>
          <a:stretch/>
        </p:blipFill>
        <p:spPr>
          <a:xfrm>
            <a:off x="771480" y="828720"/>
            <a:ext cx="76010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dultReassessment6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AdultReassessment7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dultReassessment8.jpg"/>
          <p:cNvPicPr/>
          <p:nvPr/>
        </p:nvPicPr>
        <p:blipFill>
          <a:blip r:embed="rId1"/>
          <a:stretch/>
        </p:blipFill>
        <p:spPr>
          <a:xfrm>
            <a:off x="762120" y="82404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8:39:19Z</dcterms:created>
  <dc:creator>zcui</dc:creator>
  <dc:description/>
  <dc:language>en-US</dc:language>
  <cp:lastModifiedBy>rbalne</cp:lastModifiedBy>
  <dcterms:modified xsi:type="dcterms:W3CDTF">2009-08-12T14:04:27Z</dcterms:modified>
  <cp:revision>2</cp:revision>
  <dc:subject/>
  <dc:title>TRAC</dc:title>
</cp:coreProperties>
</file>